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85D-04B0-4D2E-84B3-7B86088F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A1B-62CE-48F6-BBBE-FDBC8A4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EAC-90B6-4714-94D9-589B0536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451-F254-4487-BF9C-A0EF6722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5CA-8227-4CAB-B299-728A37F9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61E-07B5-45A8-A7C8-99E4542B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C0F-41A2-4729-BCE0-697E3D94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43B-73D1-4A04-BCA5-6FC39CF8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FCF-77AC-45D2-B4CF-2AC61463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385-4D18-4E09-BF04-67C9B4B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7C6-B91E-44DB-A198-9D8F1BB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C8F-A163-4D54-9BF9-B51C53D8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92D2-E77D-4341-8326-17D1524A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hyperlink" Target="http://tell.fll.purdue.edu/JapanProj/FLClipart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hyperlink" Target="http://tell.fll.purdue.edu/JapanProj/FLClipart/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hyperlink" Target="http://tell.fll.purdue.edu/JapanProj/FLClipart/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ll.fll.purdue.edu/JapanProj/FLClipart/" TargetMode="External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ell.fll.purdue.edu/JapanProj/FLClipart/" TargetMode="External"/><Relationship Id="rId3" Type="http://schemas.openxmlformats.org/officeDocument/2006/relationships/hyperlink" Target="http://tell.fll.purdue.edu/JapanProj/FLClipart/" TargetMode="External"/><Relationship Id="rId4" Type="http://schemas.openxmlformats.org/officeDocument/2006/relationships/hyperlink" Target="http://tell.fll.purdue.edu/JapanProj/FLClipart/" TargetMode="External"/><Relationship Id="rId5" Type="http://schemas.openxmlformats.org/officeDocument/2006/relationships/hyperlink" Target="http://tell.fll.purdue.edu/JapanProj/FLClipart/" TargetMode="External"/><Relationship Id="rId6" Type="http://schemas.openxmlformats.org/officeDocument/2006/relationships/hyperlink" Target="http://tell.fll.purdue.edu/JapanProj/FLClipart/" TargetMode="External"/><Relationship Id="rId7" Type="http://schemas.openxmlformats.org/officeDocument/2006/relationships/hyperlink" Target="http://tell.fll.purdue.edu/JapanProj/FLClipart/" TargetMode="External"/><Relationship Id="rId8" Type="http://schemas.openxmlformats.org/officeDocument/2006/relationships/hyperlink" Target="http://tell.fll.purdue.edu/JapanProj/FLClipart/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 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3 de abril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casa o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rooms in the apar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90840" y="3638520"/>
            <a:ext cx="560088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6924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6472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3908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54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muy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00400" y="838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s gusta _____ casa  bonit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una casa boni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es una casa boni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8380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00400" y="8380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 casa no es gran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tell.fll.purdue.edu/JapanProj/FLClipar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 en la cafeteria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__________ mucho en la clase. (escrib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s _________ un gato. (te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Ud._________ café? (v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__________ mucha cola. (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 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s años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onde vive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n ustedes una casa privada o un apart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ienes una masco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R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say OUR in Spa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tivos Poses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l-Ella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los-Ellas-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888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920" y="2133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644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93240" y="2133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5880" y="3352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5360" y="33526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51000" y="3900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20960" y="3900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3120" y="43578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22960" y="43578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09280" y="489096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37720" y="48909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Nuestros(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5240" y="54100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8880" y="54100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(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sombre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___ sombre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 sombrero es de color caf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1547640" cy="1011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2590920" cy="188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83808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gusta más ____ gorra   azu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553080" y="914400"/>
            <a:ext cx="23623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89548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es ____ 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00400" y="8380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______      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ll.fll.purdue.edu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JapanProj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FLClipart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6477120" y="380880"/>
            <a:ext cx="2133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01:03Z</dcterms:created>
  <dc:creator>Helen Zumaeta</dc:creator>
  <dc:description/>
  <dc:language>en-US</dc:language>
  <cp:lastModifiedBy>Helen Zumaeta</cp:lastModifiedBy>
  <dcterms:modified xsi:type="dcterms:W3CDTF">2012-04-23T04:21:05Z</dcterms:modified>
  <cp:revision>9</cp:revision>
  <dc:subject/>
  <dc:title>Me llamo _________ Clase 6nh/il La fecha es el 4 de abril del 2011</dc:title>
</cp:coreProperties>
</file>